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7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A12AC-C1AA-407D-9AE6-CD0F3A54DFF1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D79C1-3B8E-4B8F-A425-267033273FE7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cf0e30"/>
              </a:solidFill>
              <a:latin typeface="Book Antiqu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Book Antiqua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D8F11-BC51-4F7A-A0B1-6963589E8273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cf0e30"/>
              </a:solidFill>
              <a:latin typeface="Book Antiqu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Book Antiqua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98B30-B345-4B0E-A570-1637C668D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FC3B9-768C-4182-B8F4-5C9E7A460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34C89-68A7-489D-9373-77A79259A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A59EA-38AC-4DF3-A1A0-164B03C33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877F5-71F3-44A5-86C7-5BD61B4A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D6464-DAB0-4735-AB19-52D48AAD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69E14-C4FD-427B-BA1D-3C7CD4AC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E193E-AF1D-44A9-BFC9-D54231FE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B2902-3635-4110-A312-4B057566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0E5A4-EC4B-4BD8-942B-450A81F8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E2F26-DB41-43AE-9C98-FEF09C5B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69A6-EB54-420C-88B6-107B5246C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C73AE-0C8E-4E6A-94E1-B4CCD4A2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70594-2F2E-4458-935A-B1D841D8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B1C14-7B07-40CD-B38B-430B151A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6D25B-B32F-4076-933E-C3443556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FE2E3-E593-4E3A-A0B0-234780F8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296FF-8AF5-49C1-A31E-25B7A7FCC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940A9-5773-47DF-B25F-1B63529FB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F8DDA-12F1-4FA7-81B9-5C63C4000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94F7-33C6-4F67-8D60-4322047A9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6F75-AAFA-4175-9817-BEEAAF81B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B73FF-9DE6-4AA0-A64F-943EE8A9D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130D-BC8D-49B4-AA42-8AC6E0063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33240" y="6453360"/>
            <a:ext cx="2895840" cy="40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DB8F-DB58-4DB9-991B-D0AD433E6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52280" y="152280"/>
            <a:ext cx="838440" cy="761760"/>
            <a:chOff x="152280" y="152280"/>
            <a:chExt cx="838440" cy="761760"/>
          </a:xfrm>
        </p:grpSpPr>
        <p:sp>
          <p:nvSpPr>
            <p:cNvPr id="5" name="Oval 7"/>
            <p:cNvSpPr/>
            <p:nvPr/>
          </p:nvSpPr>
          <p:spPr>
            <a:xfrm>
              <a:off x="152280" y="699840"/>
              <a:ext cx="838440" cy="214200"/>
            </a:xfrm>
            <a:prstGeom prst="ellipse">
              <a:avLst/>
            </a:prstGeom>
            <a:gradFill rotWithShape="0">
              <a:gsLst>
                <a:gs pos="0">
                  <a:srgbClr val="2f2f18"/>
                </a:gs>
                <a:gs pos="50000">
                  <a:srgbClr val="666633"/>
                </a:gs>
                <a:gs pos="100000">
                  <a:srgbClr val="2f2f18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cf0e30"/>
                </a:solidFill>
                <a:latin typeface="Book Antiqu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152280" y="270720"/>
              <a:ext cx="838440" cy="536040"/>
            </a:xfrm>
            <a:prstGeom prst="rect">
              <a:avLst/>
            </a:prstGeom>
            <a:gradFill rotWithShape="0">
              <a:gsLst>
                <a:gs pos="0">
                  <a:srgbClr val="2f2f18"/>
                </a:gs>
                <a:gs pos="50000">
                  <a:srgbClr val="666633"/>
                </a:gs>
                <a:gs pos="100000">
                  <a:srgbClr val="2f2f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cf0e30"/>
                </a:solidFill>
                <a:latin typeface="Book Antiqua"/>
              </a:endParaRPr>
            </a:p>
          </p:txBody>
        </p:sp>
        <p:pic>
          <p:nvPicPr>
            <p:cNvPr id="7" name="Object 9" descr=""/>
            <p:cNvPicPr/>
            <p:nvPr/>
          </p:nvPicPr>
          <p:blipFill>
            <a:blip r:embed="rId2"/>
            <a:stretch/>
          </p:blipFill>
          <p:spPr>
            <a:xfrm>
              <a:off x="152280" y="152280"/>
              <a:ext cx="838440" cy="214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7"/>
          <p:cNvSpPr/>
          <p:nvPr/>
        </p:nvSpPr>
        <p:spPr>
          <a:xfrm>
            <a:off x="873000" y="60008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</p:txBody>
      </p:sp>
      <p:grpSp>
        <p:nvGrpSpPr>
          <p:cNvPr id="45" name="Group 8"/>
          <p:cNvGrpSpPr/>
          <p:nvPr/>
        </p:nvGrpSpPr>
        <p:grpSpPr>
          <a:xfrm>
            <a:off x="6022800" y="4114800"/>
            <a:ext cx="3121200" cy="2708280"/>
            <a:chOff x="6022800" y="4114800"/>
            <a:chExt cx="3121200" cy="2708280"/>
          </a:xfrm>
        </p:grpSpPr>
        <p:sp>
          <p:nvSpPr>
            <p:cNvPr id="46" name="Oval 9"/>
            <p:cNvSpPr/>
            <p:nvPr/>
          </p:nvSpPr>
          <p:spPr>
            <a:xfrm>
              <a:off x="6022800" y="6060960"/>
              <a:ext cx="3121200" cy="762120"/>
            </a:xfrm>
            <a:prstGeom prst="ellipse">
              <a:avLst/>
            </a:prstGeom>
            <a:gradFill rotWithShape="0">
              <a:gsLst>
                <a:gs pos="0">
                  <a:srgbClr val="2f2f18"/>
                </a:gs>
                <a:gs pos="50000">
                  <a:srgbClr val="666633"/>
                </a:gs>
                <a:gs pos="100000">
                  <a:srgbClr val="2f2f18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cf0e30"/>
                </a:solidFill>
                <a:latin typeface="Book Antiqu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6022800" y="4535640"/>
              <a:ext cx="3121200" cy="1904760"/>
            </a:xfrm>
            <a:prstGeom prst="rect">
              <a:avLst/>
            </a:prstGeom>
            <a:gradFill rotWithShape="0">
              <a:gsLst>
                <a:gs pos="0">
                  <a:srgbClr val="2f2f18"/>
                </a:gs>
                <a:gs pos="50000">
                  <a:srgbClr val="666633"/>
                </a:gs>
                <a:gs pos="100000">
                  <a:srgbClr val="2f2f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cf0e30"/>
                </a:solidFill>
                <a:latin typeface="Book Antiqua"/>
              </a:endParaRPr>
            </a:p>
          </p:txBody>
        </p:sp>
        <p:pic>
          <p:nvPicPr>
            <p:cNvPr id="48" name="Object 11" descr=""/>
            <p:cNvPicPr/>
            <p:nvPr/>
          </p:nvPicPr>
          <p:blipFill>
            <a:blip r:embed="rId2"/>
            <a:stretch/>
          </p:blipFill>
          <p:spPr>
            <a:xfrm>
              <a:off x="6022800" y="4114800"/>
              <a:ext cx="312120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BDF3-D5F9-4F16-8957-96A44C521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hyperlink" Target="http://www.amazon.com/exec/obidos/subst/home/redirect.html/ref=nh_gateway/002-7972088-5679262" TargetMode="External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ychen@cs.northwestern.edu" TargetMode="External"/><Relationship Id="rId2" Type="http://schemas.openxmlformats.org/officeDocument/2006/relationships/hyperlink" Target="mailto:yqiao@cs.northwestern.edu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s.nwu.edu/~ychen/classes/cs317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Data Management and Information Processing 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6"/>
          <p:cNvSpPr/>
          <p:nvPr/>
        </p:nvSpPr>
        <p:spPr>
          <a:xfrm>
            <a:off x="633240" y="6453360"/>
            <a:ext cx="2895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Other databases you may use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132" name="Picture 1027" descr="ATM machine"/>
          <p:cNvPicPr/>
          <p:nvPr/>
        </p:nvPicPr>
        <p:blipFill>
          <a:blip r:embed="rId1"/>
          <a:stretch/>
        </p:blipFill>
        <p:spPr>
          <a:xfrm>
            <a:off x="1523880" y="2438280"/>
            <a:ext cx="1190880" cy="1981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28" descr="Contact Us"/>
          <p:cNvPicPr/>
          <p:nvPr/>
        </p:nvPicPr>
        <p:blipFill>
          <a:blip r:embed="rId2"/>
          <a:stretch/>
        </p:blipFill>
        <p:spPr>
          <a:xfrm>
            <a:off x="4952880" y="18288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29" descr="ebay"/>
          <p:cNvPicPr/>
          <p:nvPr/>
        </p:nvPicPr>
        <p:blipFill>
          <a:blip r:embed="rId3"/>
          <a:stretch/>
        </p:blipFill>
        <p:spPr>
          <a:xfrm>
            <a:off x="304920" y="4724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30" descr="logo-no-border(1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1600200"/>
            <a:ext cx="1409760" cy="409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31" descr="airline-ticket"/>
          <p:cNvPicPr/>
          <p:nvPr/>
        </p:nvPicPr>
        <p:blipFill>
          <a:blip r:embed="rId6"/>
          <a:stretch/>
        </p:blipFill>
        <p:spPr>
          <a:xfrm>
            <a:off x="6116760" y="3438360"/>
            <a:ext cx="2589120" cy="2886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33" descr="tivo"/>
          <p:cNvPicPr/>
          <p:nvPr/>
        </p:nvPicPr>
        <p:blipFill>
          <a:blip r:embed="rId7"/>
          <a:stretch/>
        </p:blipFill>
        <p:spPr>
          <a:xfrm>
            <a:off x="3581280" y="3733920"/>
            <a:ext cx="128772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633240" y="6453360"/>
            <a:ext cx="2895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Summary, cont.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BAs, DB developers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drock of the inform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onom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5791320" y="1625760"/>
          <a:ext cx="287316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625760"/>
                    <a:ext cx="287316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5"/>
          <p:cNvSpPr/>
          <p:nvPr/>
        </p:nvSpPr>
        <p:spPr>
          <a:xfrm>
            <a:off x="2952000" y="3962520"/>
            <a:ext cx="62643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BMS R&amp;D represents a broad,</a:t>
            </a:r>
            <a:endParaRPr b="0" lang="en-US" sz="2800" spc="-1" strike="noStrike">
              <a:solidFill>
                <a:srgbClr val="cf0e3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amental branch of the sci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of computation</a:t>
            </a:r>
            <a:endParaRPr b="0" lang="en-US" sz="2800" spc="-1" strike="noStrike">
              <a:solidFill>
                <a:srgbClr val="cf0e30"/>
              </a:solidFill>
              <a:latin typeface="Book Antiqua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826920" y="3809880"/>
          <a:ext cx="152892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809880"/>
                    <a:ext cx="152892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633240" y="6453360"/>
            <a:ext cx="2895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Logistics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ruc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an Chen (</a:t>
            </a:r>
            <a:r>
              <a:rPr b="1" lang="en-US" sz="2400" spc="-1" strike="noStrike" u="sng">
                <a:solidFill>
                  <a:srgbClr val="fccd04"/>
                </a:solidFill>
                <a:uFillTx/>
                <a:latin typeface="Tahoma"/>
                <a:hlinkClick r:id="rId1"/>
              </a:rPr>
              <a:t>ychen@cs.northwestern.edu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Hours: Th. 2-4pm or by appointment, Rm 330, 1890 Maple Ave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i Qiao (</a:t>
            </a:r>
            <a:r>
              <a:rPr b="1" lang="en-US" sz="2400" spc="-1" strike="noStrike" u="sng">
                <a:solidFill>
                  <a:srgbClr val="fccd04"/>
                </a:solidFill>
                <a:uFillTx/>
                <a:latin typeface="Tahoma"/>
                <a:hlinkClick r:id="rId2"/>
              </a:rPr>
              <a:t>yqiao@cs.northwestern.edu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Office Hours: Fri. 2-4pm, Rm 246, 1890 Maple Ave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633240" y="6453360"/>
            <a:ext cx="2895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Prerequisites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quired: CS110, CS 111 or programming experi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609480" y="2819520"/>
            <a:ext cx="77724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Course Materials</a:t>
            </a:r>
            <a:endParaRPr b="0" lang="en-US" sz="3600" spc="-1" strike="noStrike">
              <a:solidFill>
                <a:srgbClr val="cf0e30"/>
              </a:solidFill>
              <a:latin typeface="Book Antiqu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57200" y="3637080"/>
            <a:ext cx="8458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Required: A First Course in Database Systems,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 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(2nd Edition), Jeffrey Ullman and Jennifer Widom, Prentice Hall, 2002. </a:t>
            </a:r>
            <a:endParaRPr b="0" lang="en-US" sz="2400" spc="-1" strike="noStrike">
              <a:solidFill>
                <a:srgbClr val="cf0e3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Recommended:  Database Management Systems, Third Edition, Raghu Ramakrishnan and Johannes Gehrke, McGraw-Hill, 2002. </a:t>
            </a:r>
            <a:endParaRPr b="0" lang="en-US" sz="2400" spc="-1" strike="noStrike">
              <a:solidFill>
                <a:srgbClr val="cf0e3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33240" y="6453360"/>
            <a:ext cx="2895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Grading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ework (4-5 sets) 20%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s 30%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icrosoft Access to design a database in two projects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irst project is on the entity-relational (ER) mode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cond project is on relational algebra (RA) and relational calculus (RC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nal 25%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in-class, closed-book, 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cumu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policy: 10% each day after the due d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cheat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33240" y="6453360"/>
            <a:ext cx="2895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Communication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b page: </a:t>
            </a:r>
            <a:r>
              <a:rPr b="1" lang="en-US" sz="2400" spc="-1" strike="noStrike" u="sng">
                <a:solidFill>
                  <a:srgbClr val="fccd04"/>
                </a:solidFill>
                <a:uFillTx/>
                <a:latin typeface="Tahoma"/>
                <a:hlinkClick r:id="rId1"/>
              </a:rPr>
              <a:t>http://www.cs.nwu.edu/~ychen/classes/cs317/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cit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Tu, Th or Fri?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5-6pm, Room 381, 1890 Mapl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 lectures 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he homework and projects, and help to prepare the exam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sgroup are availa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.317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ourse announcement, and posting Q &amp; 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d emails to instructor and TA for questions inappropriate in newsgrou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urse outline (see it onlin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633240" y="6453360"/>
            <a:ext cx="2895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What Is a Database </a:t>
            </a:r>
            <a:r>
              <a:rPr b="0" i="1" lang="en-US" sz="3600" spc="-1" strike="noStrike" u="sng">
                <a:solidFill>
                  <a:srgbClr val="0000cc"/>
                </a:solidFill>
                <a:uFillTx/>
                <a:latin typeface="Tahoma"/>
              </a:rPr>
              <a:t>System</a:t>
            </a: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base: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 very large, integrated collection of data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odels a real-world </a:t>
            </a:r>
            <a:r>
              <a:rPr b="1" i="1" lang="en-US" sz="2000" spc="-1" strike="noStrike" u="sng">
                <a:solidFill>
                  <a:srgbClr val="009900"/>
                </a:solidFill>
                <a:uFillTx/>
                <a:latin typeface="Tahoma"/>
              </a:rPr>
              <a:t>enterpris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4080"/>
                </a:solidFill>
                <a:latin typeface="Tahoma"/>
              </a:rPr>
              <a:t>Entiti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e.g., </a:t>
            </a:r>
            <a:r>
              <a:rPr b="0" lang="en-US" sz="2000" spc="-1" strike="noStrike">
                <a:solidFill>
                  <a:srgbClr val="004080"/>
                </a:solidFill>
                <a:latin typeface="Tahoma"/>
              </a:rPr>
              <a:t>tea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4080"/>
                </a:solidFill>
                <a:latin typeface="Tahoma"/>
              </a:rPr>
              <a:t>gam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d6020c"/>
                </a:solidFill>
                <a:latin typeface="Tahoma"/>
              </a:rPr>
              <a:t>Relationship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e.g., </a:t>
            </a:r>
            <a:r>
              <a:rPr b="0" lang="en-US" sz="2000" spc="-1" strike="noStrike">
                <a:solidFill>
                  <a:srgbClr val="004080"/>
                </a:solidFill>
                <a:latin typeface="Tahoma"/>
              </a:rPr>
              <a:t>The Forty-Nin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d6020c"/>
                </a:solidFill>
                <a:latin typeface="Tahoma"/>
              </a:rPr>
              <a:t>are playing in </a:t>
            </a:r>
            <a:r>
              <a:rPr b="0" lang="en-US" sz="2000" spc="-1" strike="noStrike">
                <a:solidFill>
                  <a:srgbClr val="004080"/>
                </a:solidFill>
                <a:latin typeface="Tahoma"/>
              </a:rPr>
              <a:t>The Superbow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recently, also includes active components , often called “business logic”.  (e.g., the BCS ranking syste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US" sz="2000" spc="-1" strike="noStrike" u="sng">
                <a:solidFill>
                  <a:srgbClr val="009900"/>
                </a:solidFill>
                <a:uFillTx/>
                <a:latin typeface="Tahoma"/>
              </a:rPr>
              <a:t>Database Management System (DBMS)</a:t>
            </a:r>
            <a:r>
              <a:rPr b="1" i="1" lang="en-US" sz="20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s a software system designed to </a:t>
            </a:r>
            <a:r>
              <a:rPr b="1" lang="en-US" sz="2000" spc="-1" strike="noStrike">
                <a:solidFill>
                  <a:srgbClr val="fc0128"/>
                </a:solidFill>
                <a:latin typeface="Tahoma"/>
              </a:rPr>
              <a:t>store, manage, and facilitate access t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databases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7772400" y="304920"/>
          <a:ext cx="93204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04920"/>
                    <a:ext cx="9320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633240" y="6453360"/>
            <a:ext cx="2895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Database Systems: Then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119" name="Picture 3" descr="computer"/>
          <p:cNvPicPr/>
          <p:nvPr/>
        </p:nvPicPr>
        <p:blipFill>
          <a:blip r:embed="rId1"/>
          <a:stretch/>
        </p:blipFill>
        <p:spPr>
          <a:xfrm>
            <a:off x="2514600" y="762120"/>
            <a:ext cx="465624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633240" y="6453360"/>
            <a:ext cx="2895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Database Systems: Today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grpSp>
        <p:nvGrpSpPr>
          <p:cNvPr id="122" name="Group 6"/>
          <p:cNvGrpSpPr/>
          <p:nvPr/>
        </p:nvGrpSpPr>
        <p:grpSpPr>
          <a:xfrm>
            <a:off x="380880" y="1066680"/>
            <a:ext cx="8534520" cy="4916520"/>
            <a:chOff x="380880" y="1066680"/>
            <a:chExt cx="8534520" cy="4916520"/>
          </a:xfrm>
        </p:grpSpPr>
        <p:pic>
          <p:nvPicPr>
            <p:cNvPr id="123" name="Picture 3" descr=""/>
            <p:cNvPicPr/>
            <p:nvPr/>
          </p:nvPicPr>
          <p:blipFill>
            <a:blip r:embed="rId1"/>
            <a:stretch/>
          </p:blipFill>
          <p:spPr>
            <a:xfrm>
              <a:off x="380880" y="1066680"/>
              <a:ext cx="6705720" cy="43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4" descr="tour_message_small2"/>
            <p:cNvPicPr/>
            <p:nvPr/>
          </p:nvPicPr>
          <p:blipFill>
            <a:blip r:embed="rId2"/>
            <a:stretch/>
          </p:blipFill>
          <p:spPr>
            <a:xfrm>
              <a:off x="4419720" y="3352680"/>
              <a:ext cx="4495680" cy="263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Text Box 5"/>
          <p:cNvSpPr/>
          <p:nvPr/>
        </p:nvSpPr>
        <p:spPr>
          <a:xfrm>
            <a:off x="6185520" y="6400800"/>
            <a:ext cx="25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f0e30"/>
                </a:solidFill>
                <a:latin typeface="Book Antiqua"/>
              </a:rPr>
              <a:t>From Friendster.com on-line tour</a:t>
            </a: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33240" y="6453360"/>
            <a:ext cx="2895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f0e30"/>
              </a:solidFill>
              <a:latin typeface="Book Antiqu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Other Ways Databases Make Life Better?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4678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yers could finally                                                    sign up for the Star                                                     Wars Galaxies game                                                   last week as Sony                                                              opened up registration                                          to the public.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ce players got in to                                                the game they found                                                   that the game servers                                              were offline because of </a:t>
            </a:r>
            <a:r>
              <a:rPr b="1" lang="en-US" sz="2400" spc="-1" strike="noStrike">
                <a:solidFill>
                  <a:srgbClr val="d6020c"/>
                </a:solidFill>
                <a:latin typeface="Tahoma"/>
              </a:rPr>
              <a:t>database problem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”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 players spent hours tuning their in-game characters only to find that </a:t>
            </a:r>
            <a:r>
              <a:rPr b="1" lang="en-US" sz="2400" spc="-1" strike="noStrike">
                <a:solidFill>
                  <a:srgbClr val="d6020c"/>
                </a:solidFill>
                <a:latin typeface="Tahoma"/>
              </a:rPr>
              <a:t>crashes deleted all their hard wor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urce: BBC News Online, July 1, 2003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1028" descr="Screenshot of Star Wars Galaxies, Lucas Arts"/>
          <p:cNvPicPr/>
          <p:nvPr/>
        </p:nvPicPr>
        <p:blipFill>
          <a:blip r:embed="rId1"/>
          <a:stretch/>
        </p:blipFill>
        <p:spPr>
          <a:xfrm>
            <a:off x="4572000" y="990720"/>
            <a:ext cx="434340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6T18:13:42Z</dcterms:created>
  <dc:creator>Various</dc:creator>
  <dc:description>See the notes for information on how the slides are organized.</dc:description>
  <cp:keywords>Module 1 Lecture 1</cp:keywords>
  <dc:language>en-US</dc:language>
  <cp:lastModifiedBy>hp</cp:lastModifiedBy>
  <cp:lastPrinted>2003-01-30T04:56:09Z</cp:lastPrinted>
  <dcterms:modified xsi:type="dcterms:W3CDTF">2019-03-08T20:51:21Z</dcterms:modified>
  <cp:revision>144</cp:revision>
  <dc:subject>Database Management Systems</dc:subject>
  <dc:title>Introduction to Database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9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-inst.eecs.berkeley.edu/~cs186/</vt:lpwstr>
  </property>
  <property fmtid="{D5CDD505-2E9C-101B-9397-08002B2CF9AE}" pid="9" name="LinkColor">
    <vt:r8>16711782</vt:r8>
  </property>
  <property fmtid="{D5CDD505-2E9C-101B-9397-08002B2CF9AE}" pid="10" name="MailAddress">
    <vt:lpwstr>cs186@cory.eecs.berkeley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users\jmh\school\cs186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